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36B-7E89-46F2-A130-CD75C0AF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AAD-C59C-4850-A8D8-9DDC3A63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77C-E8B1-446C-99ED-CDADB7E2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4D4-829B-44C3-B646-A71EECEB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E1AE-2E70-40D4-AE6A-08CAC4F8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3E41-7347-4DDD-A55C-B62FE067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7DD0-AF0C-4409-9B50-E2457F19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FD4B-C31F-47CF-9654-7D29574B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4D44-5359-4E16-9DE4-3BCCB0E0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7EDF-CE76-4D05-81A4-988E9514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DB08-1DDB-4744-84F7-74FE67D8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15F-AA45-444E-88B9-32D25A80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DA8A-6479-4235-B612-E025060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8A4F-DBCA-4829-81D8-908A254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7E1F-673E-4FB0-BE23-6E05A2F3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1E61-EF9E-4B5A-BC77-B99762D6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8F65-A7D6-40A5-8D12-9DD4BC47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EAE-691A-4C55-8927-18A5B7D7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358-0E4E-4F32-AE42-D0CFACF7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7DC-6D8B-4B67-A5F7-179F39BA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E8E-F160-4C4E-8A2E-C8A99344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609-0364-443E-AE82-82A90E7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E4F-9644-4D9C-ABF9-B28861A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725-9A4F-41E4-A8BC-82EA403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77CC-DD55-40F0-8198-CE651F0E89F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1720-042D-40C2-ABCB-F2361C3DBFA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грамма профилактики буллинга в образовательных учреждени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(для учителе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26028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итуации травли учитель ничего не может сделать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Очевидно, что эта проблема заслуживае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ольшого внимани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14200" y="1500120"/>
          <a:ext cx="8137800" cy="4291200"/>
        </p:xfrm>
        <a:graphic>
          <a:graphicData uri="http://schemas.openxmlformats.org/drawingml/2006/table">
            <a:tbl>
              <a:tblPr/>
              <a:tblGrid>
                <a:gridCol w="2319480"/>
                <a:gridCol w="3324240"/>
                <a:gridCol w="2494080"/>
              </a:tblGrid>
              <a:tr h="39229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  можно понять, что в Вашем классе этой проблемы не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ие есть  способы предупреждения этой проблемы 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то  можно сделать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появились первые признаки проблемы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280" y="1341360"/>
            <a:ext cx="8785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работе с буллингом важно четко понимать и соблюдать последовательность действий. Сначала надо пресечь буллинг, и лишь затем актуальность обретает помощь жертве с психологическими и поведенческими проблемами. Если сначала проводить социальный тренинг или подобные мероприятия, то это сообщает жертве и остальным, что она сама виновата в травле. Это деструктивно для жертвы и окажет опасное воздействие на учеников и школьную атмосферу в ц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ециалисты школьного отде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33336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 буллинг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или травл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можно говорить тогда, когда один или несколько индивид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гулярн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на протяжении длительного времен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вергаются негативным действия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 стороны одного или нескольких индивид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(Ден Ольвеус 1983г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209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дивиду, подвергающемуся буллингу, обычно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легко себя защитить – он, как правило, относительно беспомощен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сора между примерно равными по соотношению сил индивидов не является буллинг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Значимость этого аспекта была отмечена еще в 1983 году, когда в Норвегии была проведена первая в мире компания, направленная против моббинга.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пространенность буллинг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3% школьников имеют опы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жер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%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причем в больших городах уровень буллинга выше, чем в сельской местности (Россия) (Ениколоп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5% подростков хотя бы раз участвовали в буллинге (Россия) (Собкин, Маркина, 200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   68% учеников средней школы быва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идетел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травли в школе (Канада)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c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m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terhou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a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1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– нормальный и безвредный процесс взросления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(буллинг, моббинг) в школе – проблема, с которой сталкиваются очень многие. Буллинг – не нормативный и не безвредный этап взросления. Буллинг – это насилие, имеющее тяжелые последствия для всех участников и сообщества в целом. Буллинг привычен для российской действительности, сложно его обнаруживать, сложно обсуждать, сложно изменять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.               отношени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к нему,  как к норме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жертвы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испытывают сложности со здоровьем и успеваемостью, в три раза чаще сверстников имеют симптомы тревожно-депрессивных расстройств, апатию, головные боли и энурез, совершают попытки суицид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Kowalsk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mbe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gatston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11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Van der Wa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e Wit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irasing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03)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часто отмечаются низкая успеваемость, прогулы, драки, воровство, вандализм, хранение оружия, употребление алкоголя и таб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r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4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arofal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l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Kes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1998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yni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n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t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2001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lwe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3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ей с необычным поведением будут обижать в любом коллектив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59:02Z</dcterms:created>
  <dc:creator>User</dc:creator>
  <dc:description/>
  <dc:language>en-US</dc:language>
  <cp:lastModifiedBy>Administrator</cp:lastModifiedBy>
  <dcterms:modified xsi:type="dcterms:W3CDTF">2014-02-16T15:16:48Z</dcterms:modified>
  <cp:revision>88</cp:revision>
  <dc:subject/>
  <dc:title>Программа профилактики буллинга в образовательных учреждениях</dc:title>
</cp:coreProperties>
</file>