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996A-B921-4B97-8BB4-48870207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225-6562-4853-B9D8-A4F1B62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ACF-D373-4C6C-8696-60AD34AD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633-7F11-4F5B-925B-40BBF360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74CA-A16F-428D-A0F5-F97DEB1D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F44F-AE9E-4484-9A57-320AFA1C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EDC8-E8CB-4E85-81BE-7233BB04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2AFB-8623-433F-8B84-0DA41AE3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EA991-89A7-43B4-B687-B6FC8631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F4EE-C5AA-491D-81F0-1956CF2C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BA64-4A38-4D8D-B4EC-48DFFFCF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002D-B214-4847-9C44-778B1600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E776-7A5F-4C01-A79A-1D2DEE8D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9D81A-063E-4B86-BE50-E8977D31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6642-9B62-40C7-9A00-B252522F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3CB8-FFEE-459C-B599-E78D7319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2833-C8E1-42D8-A7C7-A96470A9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844-A134-41E6-9DEC-0EAE1636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8F1-6819-4EDD-8140-8E3AA232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21D-C119-4611-9ADE-BF3E3B44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E3C-1397-4BEC-B045-900CA039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FE8-2787-4059-B430-616D3F2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A434-4AC9-4C76-8E0C-0BCB3D8B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82E-6EF8-4DA3-9417-88B6738E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DA40-8008-4C32-AF88-3E5AE5E12F6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3520"/>
            <a:ext cx="2433240" cy="2254680"/>
            <a:chOff x="7168680" y="-835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3520"/>
              <a:ext cx="2433240" cy="2254680"/>
              <a:chOff x="7168680" y="-835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3520"/>
                <a:ext cx="2433240" cy="2254680"/>
                <a:chOff x="7168680" y="-835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48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5480" y="518760"/>
                  <a:ext cx="43020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2000" y="282240"/>
                  <a:ext cx="8082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2680"/>
                  <a:ext cx="1213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112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4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440" y="335520"/>
                  <a:ext cx="2894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5280" y="213840"/>
                  <a:ext cx="28656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DA8E-2D69-4A5C-A187-A5241F77D8A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Программа профилактики буллинга в образовательных учреждения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(для учителей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26028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ситуации травли учитель ничего не может сделать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00040" y="1357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Очевидно, что эта проблема заслуживает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большого внимания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14200" y="1500120"/>
          <a:ext cx="8137800" cy="4291200"/>
        </p:xfrm>
        <a:graphic>
          <a:graphicData uri="http://schemas.openxmlformats.org/drawingml/2006/table">
            <a:tbl>
              <a:tblPr/>
              <a:tblGrid>
                <a:gridCol w="2319480"/>
                <a:gridCol w="3324240"/>
                <a:gridCol w="2494080"/>
              </a:tblGrid>
              <a:tr h="3922920"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  можно понять, что в Вашем классе этой проблемы не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Какие есть  способы предупреждения этой проблемы ?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Что  можно сделать,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ли появились первые признаки проблемы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280" y="1341360"/>
            <a:ext cx="878544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работе с буллингом важно четко понимать и соблюдать последовательность действий. Сначала надо пресечь буллинг, и лишь затем актуальность обретает помощь жертве с психологическими и поведенческими проблемами. Если сначала проводить социальный тренинг или подобные мероприятия, то это сообщает жертве и остальным, что она сама виновата в травле. Это деструктивно для жертвы и окажет опасное воздействие на учеников и школьную атмосферу в ц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0004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зентацию подготовил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пециалисты школьного отдел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Рисунок 7" descr="LOGO_green.jpg"/>
          <p:cNvPicPr/>
          <p:nvPr/>
        </p:nvPicPr>
        <p:blipFill>
          <a:blip r:embed="rId1"/>
          <a:stretch/>
        </p:blipFill>
        <p:spPr>
          <a:xfrm>
            <a:off x="6659640" y="333360"/>
            <a:ext cx="9284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 буллинг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или травле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можно говорить тогда, когда один или несколько индивидов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регулярно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, на протяжении длительного времен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подвергаются негативным действиям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 стороны одного или нескольких индивидов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(Ден Ольвеус 1983г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95280" y="12096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Буллин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ндивиду, подвергающемуся буллингу, обычно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нелегко себя защитить – он, как правило, относительно беспомощен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сора между примерно равными по соотношению сил индивидов не является буллинго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Значимость этого аспекта была отмечена еще в 1983 году, когда в Норвегии была проведена первая в мире компания, направленная против моббинга.)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Распространенность буллинг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3% школьников имеют опыт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жерт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% –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причем в больших городах уровень буллинга выше, чем в сельской местности (Россия) (Ениколопов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5% подростков хотя бы раз участвовали в буллинге (Россия) (Собкин, Маркина, 200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-   68% учеников средней школы бывал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видетелям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травли в школе (Канада)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rach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m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terhou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al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2010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1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i="1" lang="ru-RU" sz="44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– нормальный и безвредный процесс взросления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Травля (буллинг, моббинг) в школе – проблема, с которой сталкиваются очень многие. Буллинг – не нормативный и не безвредный этап взросления. Буллинг – это насилие, имеющее тяжелые последствия для всех участников и сообщества в целом. Буллинг привычен для российской действительности, сложно его обнаруживать, сложно обсуждать, сложно изменять                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 .               отношени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к нему,  как к норме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71680" y="128592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жертвы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испытывают сложности со здоровьем и успеваемостью, в три раза чаще сверстников имеют симптомы тревожно-депрессивных расстройств, апатию, головные боли и энурез, совершают попытки суицида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Kowalsk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Limber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Agatston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11;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Van der Wa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de Wit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Hirasing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Calibri"/>
              </a:rPr>
              <a:t>, 2003).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оследствия буллинга и связанные с ним риски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следователе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часто отмечаются низкая успеваемость, прогулы, драки, воровство, вандализм, хранение оружия, употребление алкоголя и таба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Byrn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4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arofal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olf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Kes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1998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ayni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ans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te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 a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., 2001;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lweu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, 1993)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9640" y="134136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порное утвержд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№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тей с необычным поведением будут обижать в любом коллективе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86960" y="221760"/>
            <a:ext cx="585324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Центр социальной-психологической адаптации и развития </a:t>
            </a:r>
            <a:br>
              <a:rPr sz="2100"/>
            </a:br>
            <a:r>
              <a:rPr b="1" lang="ru-RU" sz="2100" spc="-1" strike="noStrike">
                <a:solidFill>
                  <a:srgbClr val="92d050"/>
                </a:solidFill>
                <a:latin typeface="Comic Sans MS"/>
              </a:rPr>
              <a:t>подростков «ПЕРЕКРЕСТОК» МГППУ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4786200" y="6286680"/>
            <a:ext cx="4208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Центр "ПЕРЕКРЕСТОК" МГППУ, октябрь 201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Рисунок 7" descr="LOGO_green.jpg"/>
          <p:cNvPicPr/>
          <p:nvPr/>
        </p:nvPicPr>
        <p:blipFill>
          <a:blip r:embed="rId1"/>
          <a:stretch/>
        </p:blipFill>
        <p:spPr>
          <a:xfrm>
            <a:off x="6588000" y="260280"/>
            <a:ext cx="9288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1T08:59:02Z</dcterms:created>
  <dc:creator>User</dc:creator>
  <dc:description/>
  <dc:language>en-US</dc:language>
  <cp:lastModifiedBy>Administrator</cp:lastModifiedBy>
  <dcterms:modified xsi:type="dcterms:W3CDTF">2014-02-16T15:16:48Z</dcterms:modified>
  <cp:revision>88</cp:revision>
  <dc:subject/>
  <dc:title>Программа профилактики буллинга в образовательных учреждениях</dc:title>
</cp:coreProperties>
</file>