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AAF-3F8E-4CE5-BEBA-A136FEF8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9FA-A169-49B8-A3CB-537E8567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437-4708-4AEF-B17F-C08491DB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6F4-42A0-4283-B668-13A9C555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1529-8185-4233-8A69-80921DFD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3A13-234F-49A9-80B5-054838F8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0F07-69A2-4D81-B6D7-B979277D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F382-8176-4D0B-B7E4-E96B01A0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EA3A-5882-42DC-9DD8-42372342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9F23-062E-42C2-A2C5-88EDC2E5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4CB0-E7EF-4CD9-AA88-697F04EA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C8B-39E7-4AE6-A165-14755A40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3568-FC55-414A-B379-7254180A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8446-466F-4895-9A7F-951AACA7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8956-DC16-44FF-9DCF-53CEF877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1E46-E15F-4454-9262-089250A3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D838-2894-4893-A004-8C607388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A2C-BE80-4369-B4B9-503ED076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7D4-A44E-4ABC-9CA4-0D95F735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ECF-4556-49FB-8F97-12735F43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28E-5C2F-4B8D-8C39-E73711CF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B8C-3991-4341-B010-9B130B35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74D-9991-4ABE-AACF-76F323FA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AE8-F743-4425-9D88-5471CB0C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ED9E-D231-4890-BF4D-7C144B09E05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DBDC-8B33-4D06-A36D-D3F0740D4AD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рограмма профилактики буллинга в образовательных учреждения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(для учителей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Рисунок 7" descr="LOGO_green.jpg"/>
          <p:cNvPicPr/>
          <p:nvPr/>
        </p:nvPicPr>
        <p:blipFill>
          <a:blip r:embed="rId1"/>
          <a:stretch/>
        </p:blipFill>
        <p:spPr>
          <a:xfrm>
            <a:off x="6659640" y="26028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ситуации травли учитель ничего не может сделать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00040" y="1357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Очевидно, что эта проблема заслуживае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большого внимания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14200" y="1500120"/>
          <a:ext cx="8137800" cy="4291200"/>
        </p:xfrm>
        <a:graphic>
          <a:graphicData uri="http://schemas.openxmlformats.org/drawingml/2006/table">
            <a:tbl>
              <a:tblPr/>
              <a:tblGrid>
                <a:gridCol w="2319480"/>
                <a:gridCol w="3324240"/>
                <a:gridCol w="2494080"/>
              </a:tblGrid>
              <a:tr h="39229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ак  можно понять, что в Вашем классе этой проблемы не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акие есть  способы предупреждения этой проблемы ?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Что  можно сделать,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появились первые признаки проблемы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280" y="1341360"/>
            <a:ext cx="87854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 работе с буллингом важно четко понимать и соблюдать последовательность действий. Сначала надо пресечь буллинг, и лишь затем актуальность обретает помощь жертве с психологическими и поведенческими проблемами. Если сначала проводить социальный тренинг или подобные мероприятия, то это сообщает жертве и остальным, что она сама виновата в травле. Это деструктивно для жертвы и окажет опасное воздействие на учеников и школьную атмосферу в ц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зентацию подготовил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ециалисты школьного отде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Рисунок 7" descr="LOGO_green.jpg"/>
          <p:cNvPicPr/>
          <p:nvPr/>
        </p:nvPicPr>
        <p:blipFill>
          <a:blip r:embed="rId1"/>
          <a:stretch/>
        </p:blipFill>
        <p:spPr>
          <a:xfrm>
            <a:off x="6659640" y="33336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улли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 буллинг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или травл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можно говорить тогда, когда один или несколько индивидо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егулярн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, на протяжении длительного времен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двергаются негативным действиям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о стороны одного или нескольких индивид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(Ден Ольвеус 1983г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5280" y="12096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улли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дивиду, подвергающемуся буллингу, обычно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легко себя защитить – он, как правило, относительно беспомощен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сора между примерно равными по соотношению сил индивидов не является буллинг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Значимость этого аспекта была отмечена еще в 1983 году, когда в Норвегии была проведена первая в мире компания, направленная против моббинга.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спространенность буллинг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3% школьников имеют опы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жерт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20%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ледователе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причем в больших городах уровень буллинга выше, чем в сельской местности (Россия) (Ениколопов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5% подростков хотя бы раз участвовали в буллинге (Россия) (Собкин, Маркина, 200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-   68% учеников средней школы бывал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идетеля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травли в школе (Канада)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ach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ym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aterhous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al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201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Травля – нормальный и безвредный процесс взросления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Травля (буллинг, моббинг) в школе – проблема, с которой сталкиваются очень многие. Буллинг – не нормативный и не безвредный этап взросления. Буллинг – это насилие, имеющее тяжелые последствия для всех участников и сообщества в целом. Буллинг привычен для российской действительности, сложно его обнаруживать, сложно обсуждать, сложно изменять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.               отношени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к нему,  как к норме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ствия буллинга и связанные с ним риски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жертвы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испытывают сложности со здоровьем и успеваемостью, в три раза чаще сверстников имеют симптомы тревожно-депрессивных расстройств, апатию, головные боли и энурез, совершают попытки суицид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Kowalsk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imbe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gatstone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2011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Van der Wa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e Wit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Hirasing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2003)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ствия буллинга и связанные с ним рис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ледовател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часто отмечаются низкая успеваемость, прогулы, драки, воровство, вандализм, хранение оружия, употребление алкоголя и таба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yr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1994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arofal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l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Kess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 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, 1998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yni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ans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it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 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, 2001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lweu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1993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тей с необычным поведением будут обижать в любом коллективе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8:59:02Z</dcterms:created>
  <dc:creator>User</dc:creator>
  <dc:description/>
  <dc:language>en-US</dc:language>
  <cp:lastModifiedBy>Administrator</cp:lastModifiedBy>
  <dcterms:modified xsi:type="dcterms:W3CDTF">2014-02-16T15:16:48Z</dcterms:modified>
  <cp:revision>88</cp:revision>
  <dc:subject/>
  <dc:title>Программа профилактики буллинга в образовательных учреждениях</dc:title>
</cp:coreProperties>
</file>